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1ACCC6-06A8-42BB-8FAB-2CC2843FE8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4E0CD9-D731-4DAB-879F-DD0461BE301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5E5E81-C6FA-4683-BFD9-EC99A4ED1B2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7985BC-DC65-4957-A1E8-DDEC7B518F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8D8439-A50D-4612-BB75-4877D84A6F0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C3C256-02EB-4932-9FFB-B08E678C72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0BB48B-2790-40DA-A92A-69921B57422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119A65-F8E1-4095-BD8D-4656D2926A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E38881-92E1-4451-AF56-8A46E0CC281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5ECF51-6C22-48D5-B14F-9F39722693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380FC4-33BA-4482-8CDC-64BF1A4E5F0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65310-A756-4BCD-B0DD-40839DE634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63125-C3A6-4FA4-A740-0E5776607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56564F-331D-4C9E-8DDF-F2246898BA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1907DF-3104-4ED3-81E4-57A104A35E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9AFDC-F5F9-458B-B6F5-0EDFCEF1B7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6736B-D3EC-450C-9668-29AE607926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32021-EBCB-4F3A-8A95-70FCCCDCB8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43D924-CB25-4701-8250-7FD3839B44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5386EB1-11AC-4184-B04A-913798FE0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F61BB-514F-478C-90F4-4FA756AB98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4A49E-7DFE-49D4-ABBB-F5E3DA691E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0581F-103C-476C-B0DE-47A161E7F7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CBD6B-011D-45B7-B239-FB8BCDD15C6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image" Target="../media/image6.jpeg"/><Relationship Id="rId12" Type="http://schemas.openxmlformats.org/officeDocument/2006/relationships/image" Target="../media/image7.jpeg"/><Relationship Id="rId13" Type="http://schemas.openxmlformats.org/officeDocument/2006/relationships/image" Target="../media/image4.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8.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1.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2.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5.jpe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049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would die for Juliet, my love.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8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hates fate. All it does is ruin my life.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1000" spc="-1" strike="noStrike">
                <a:solidFill>
                  <a:srgbClr val="000000"/>
                </a:solidFill>
                <a:latin typeface="Arial"/>
              </a:rPr>
              <a:t>I tried to tell them you were innocent, but those stupid Capulets always have to have their way. </a:t>
            </a:r>
            <a:endParaRPr b="0" lang="en-US" sz="10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doesn’t think this day could get any worse. I lost my best friend and might never seen my amazing wife again. Sometimes I wish it would end.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had a great time at the party! I met a really hot girl. I think you know who you are. ;-) Love ya, babe.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Get over Rosaline, dude!! She’s not even that hot! There’ll be a ton of chicks at the Capulet party. You’ll see there’s better girls out there tonight.</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s wondering why Rosaline won’t accept my love. I hate my life.</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76520" cy="385560"/>
        </p:xfrm>
        <a:graphic>
          <a:graphicData uri="http://schemas.openxmlformats.org/drawingml/2006/table">
            <a:tbl>
              <a:tblPr/>
              <a:tblGrid>
                <a:gridCol w="1676520"/>
              </a:tblGrid>
              <a:tr h="385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ove is my religion – I could die for i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368280"/>
            <a:ext cx="1200240" cy="1536840"/>
          </a:xfrm>
          <a:prstGeom prst="rect">
            <a:avLst/>
          </a:prstGeom>
          <a:ln w="0">
            <a:noFill/>
          </a:ln>
        </p:spPr>
      </p:pic>
      <p:pic>
        <p:nvPicPr>
          <p:cNvPr id="92" name="Picture 57" descr=""/>
          <p:cNvPicPr/>
          <p:nvPr/>
        </p:nvPicPr>
        <p:blipFill>
          <a:blip r:embed="rId6"/>
          <a:stretch/>
        </p:blipFill>
        <p:spPr>
          <a:xfrm>
            <a:off x="2133720" y="2462040"/>
            <a:ext cx="438120" cy="562320"/>
          </a:xfrm>
          <a:prstGeom prst="rect">
            <a:avLst/>
          </a:prstGeom>
          <a:ln w="0">
            <a:noFill/>
          </a:ln>
        </p:spPr>
      </p:pic>
      <p:pic>
        <p:nvPicPr>
          <p:cNvPr id="93" name="Picture 58" descr=""/>
          <p:cNvPicPr/>
          <p:nvPr/>
        </p:nvPicPr>
        <p:blipFill>
          <a:blip r:embed="rId7"/>
          <a:stretch/>
        </p:blipFill>
        <p:spPr>
          <a:xfrm>
            <a:off x="2057400" y="3124080"/>
            <a:ext cx="530280" cy="557280"/>
          </a:xfrm>
          <a:prstGeom prst="rect">
            <a:avLst/>
          </a:prstGeom>
          <a:ln w="0">
            <a:noFill/>
          </a:ln>
        </p:spPr>
      </p:pic>
      <p:pic>
        <p:nvPicPr>
          <p:cNvPr id="94" name="Picture 59" descr=""/>
          <p:cNvPicPr/>
          <p:nvPr/>
        </p:nvPicPr>
        <p:blipFill>
          <a:blip r:embed="rId8"/>
          <a:stretch/>
        </p:blipFill>
        <p:spPr>
          <a:xfrm>
            <a:off x="2133720" y="4446720"/>
            <a:ext cx="438120" cy="555480"/>
          </a:xfrm>
          <a:prstGeom prst="rect">
            <a:avLst/>
          </a:prstGeom>
          <a:ln w="0">
            <a:noFill/>
          </a:ln>
        </p:spPr>
      </p:pic>
      <p:pic>
        <p:nvPicPr>
          <p:cNvPr id="95" name="Picture 60" descr=""/>
          <p:cNvPicPr/>
          <p:nvPr/>
        </p:nvPicPr>
        <p:blipFill>
          <a:blip r:embed="rId9"/>
          <a:stretch/>
        </p:blipFill>
        <p:spPr>
          <a:xfrm>
            <a:off x="2133720" y="5124600"/>
            <a:ext cx="438120" cy="571320"/>
          </a:xfrm>
          <a:prstGeom prst="rect">
            <a:avLst/>
          </a:prstGeom>
          <a:ln w="0">
            <a:noFill/>
          </a:ln>
        </p:spPr>
      </p:pic>
      <p:pic>
        <p:nvPicPr>
          <p:cNvPr id="96" name="Picture 61" descr=""/>
          <p:cNvPicPr/>
          <p:nvPr/>
        </p:nvPicPr>
        <p:blipFill>
          <a:blip r:embed="rId10"/>
          <a:stretch/>
        </p:blipFill>
        <p:spPr>
          <a:xfrm>
            <a:off x="2057400" y="3692520"/>
            <a:ext cx="485640" cy="615960"/>
          </a:xfrm>
          <a:prstGeom prst="rect">
            <a:avLst/>
          </a:prstGeom>
          <a:ln w="0">
            <a:noFill/>
          </a:ln>
        </p:spPr>
      </p:pic>
      <p:pic>
        <p:nvPicPr>
          <p:cNvPr id="97" name="Picture 62" descr=""/>
          <p:cNvPicPr/>
          <p:nvPr/>
        </p:nvPicPr>
        <p:blipFill>
          <a:blip r:embed="rId11"/>
          <a:stretch/>
        </p:blipFill>
        <p:spPr>
          <a:xfrm>
            <a:off x="152280" y="5638680"/>
            <a:ext cx="446040" cy="594000"/>
          </a:xfrm>
          <a:prstGeom prst="rect">
            <a:avLst/>
          </a:prstGeom>
          <a:ln w="0">
            <a:noFill/>
          </a:ln>
        </p:spPr>
      </p:pic>
      <p:pic>
        <p:nvPicPr>
          <p:cNvPr id="98" name="Picture 63" descr=""/>
          <p:cNvPicPr/>
          <p:nvPr/>
        </p:nvPicPr>
        <p:blipFill>
          <a:blip r:embed="rId12"/>
          <a:stretch/>
        </p:blipFill>
        <p:spPr>
          <a:xfrm>
            <a:off x="685800" y="5486400"/>
            <a:ext cx="471600" cy="703440"/>
          </a:xfrm>
          <a:prstGeom prst="rect">
            <a:avLst/>
          </a:prstGeom>
          <a:ln w="0">
            <a:noFill/>
          </a:ln>
        </p:spPr>
      </p:pic>
      <p:pic>
        <p:nvPicPr>
          <p:cNvPr id="99" name="Picture 64" descr=""/>
          <p:cNvPicPr/>
          <p:nvPr/>
        </p:nvPicPr>
        <p:blipFill>
          <a:blip r:embed="rId13"/>
          <a:stretch/>
        </p:blipFill>
        <p:spPr>
          <a:xfrm>
            <a:off x="2133720" y="5818320"/>
            <a:ext cx="438120" cy="555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95280" y="5486400"/>
            <a:ext cx="55116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would die for Juliet, my love.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a:t>
            </a:r>
            <a:r>
              <a:rPr b="0" lang="en-US" sz="800" spc="-1" strike="noStrike">
                <a:solidFill>
                  <a:srgbClr val="000000"/>
                </a:solidFill>
                <a:latin typeface="Arial"/>
              </a:rPr>
              <a:t>I keep it on the down low.</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 keep  it on the down low.</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2" name="Text Box 33"/>
          <p:cNvSpPr/>
          <p:nvPr/>
        </p:nvSpPr>
        <p:spPr>
          <a:xfrm>
            <a:off x="2133720" y="312408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hanging out with friends, sword fighting, hanging with Julie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a:t>
            </a:r>
            <a:r>
              <a:rPr b="0" lang="en-US" sz="800" spc="-1" strike="noStrike">
                <a:solidFill>
                  <a:srgbClr val="000000"/>
                </a:solidFill>
                <a:latin typeface="Arial"/>
              </a:rPr>
              <a:t>Juliet, poetry, dram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ood Charlotte, </a:t>
            </a:r>
            <a:r>
              <a:rPr b="0" lang="en-US" sz="800" spc="-1" strike="noStrike">
                <a:solidFill>
                  <a:srgbClr val="959ebd"/>
                </a:solidFill>
                <a:latin typeface="Arial"/>
              </a:rPr>
              <a:t> </a:t>
            </a:r>
            <a:r>
              <a:rPr b="0" lang="en-US" sz="800" spc="-1" strike="noStrike">
                <a:solidFill>
                  <a:srgbClr val="000000"/>
                </a:solidFill>
                <a:latin typeface="Arial"/>
              </a:rPr>
              <a:t>Hawthorne Heights, Linkin Par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New Moon, Avatar, James Bond, The Legend of Zorr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rue Blood, Kyle XY, Burn Notic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Saga, Star Wars, Robin Hood</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Ba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hur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Hangin’ Ou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month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House of Montagu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466)-668-2483   (txt me, ppl!)</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04920" y="368280"/>
            <a:ext cx="1150920" cy="1473120"/>
          </a:xfrm>
          <a:prstGeom prst="rect">
            <a:avLst/>
          </a:prstGeom>
          <a:ln w="0">
            <a:noFill/>
          </a:ln>
        </p:spPr>
      </p:pic>
      <p:graphicFrame>
        <p:nvGraphicFramePr>
          <p:cNvPr id="140" name=""/>
          <p:cNvGraphicFramePr/>
          <p:nvPr/>
        </p:nvGraphicFramePr>
        <p:xfrm>
          <a:off x="114480" y="1870200"/>
          <a:ext cx="1562040" cy="415800"/>
        </p:xfrm>
        <a:graphic>
          <a:graphicData uri="http://schemas.openxmlformats.org/drawingml/2006/table">
            <a:tbl>
              <a:tblPr/>
              <a:tblGrid>
                <a:gridCol w="1562040"/>
              </a:tblGrid>
              <a:tr h="4158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ove is my religion – I could die for i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2280" y="5257800"/>
            <a:ext cx="533520" cy="709560"/>
          </a:xfrm>
          <a:prstGeom prst="rect">
            <a:avLst/>
          </a:prstGeom>
          <a:ln w="0">
            <a:noFill/>
          </a:ln>
        </p:spPr>
      </p:pic>
      <p:pic>
        <p:nvPicPr>
          <p:cNvPr id="142" name="Picture 48" descr="">
            <a:hlinkClick r:id="rId9"/>
          </p:cNvPr>
          <p:cNvPicPr/>
          <p:nvPr/>
        </p:nvPicPr>
        <p:blipFill>
          <a:blip r:embed="rId10"/>
          <a:stretch/>
        </p:blipFill>
        <p:spPr>
          <a:xfrm>
            <a:off x="0" y="6019920"/>
            <a:ext cx="838080" cy="838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1522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533520" y="1523880"/>
            <a:ext cx="6019560" cy="2471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texted me last night. It made me miss her so much. Here it is:</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Romeo, Romeo, how are you doing, Rome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My love, there’s an ache in my heart. It’s always like this when we are apart.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Oh poor Romeo. I wish you were here.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As do I, my lovely, my dear.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It’s not your fault. Did you tell them?</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Benvolio tried but would they listen?</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No.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The truth is woeful.</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Very much so. I must  tell you good night. I love you, Rome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Good night, my sweet.</a:t>
            </a:r>
            <a:endParaRPr b="0" lang="en-US" sz="800" spc="-1" strike="noStrike">
              <a:solidFill>
                <a:srgbClr val="ffffff"/>
              </a:solidFill>
              <a:latin typeface="Arial"/>
            </a:endParaRPr>
          </a:p>
        </p:txBody>
      </p:sp>
      <p:sp>
        <p:nvSpPr>
          <p:cNvPr id="157" name="Text Box 16"/>
          <p:cNvSpPr/>
          <p:nvPr/>
        </p:nvSpPr>
        <p:spPr>
          <a:xfrm>
            <a:off x="533520" y="4114800"/>
            <a:ext cx="5638680" cy="2508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Worst Day of My Lif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Ok, so I think today may be the worst day of my life. I’m seriously not kidding you. Everything has gone from all right to all wrong. Today was supposed to be a great day because I married Juliet Capulet, the most beautiful girl in the whole world. First, that lousy Tybalt had to fight even though I was opposed. Mercutio, my best friend, fought him instead. Guess what happened? Stupid Tybalt KILLED HIM! In order to get revenge for my dear friend, I had to kill Tybalt. Prince Escalus banished me from Verona. I would rather have been killed. My best friend in the world is dead, I’m banished from Verona, and I might possibly never see Juliet again. Whoever said that life isn’t fair, was right. Unfortunately. Maybe I’ll just end up killing myself. It wouldn’t be too hard, and it would be better than never seeing Juliet again. Besides, she probably hates me anyway for killing her cousin. Dang it! I forgot about that. Tybalt was my wife’s cousin. She definitely hates me. I just know it. If I was dead, everything would be way better. Life stinks.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would die for Juliet, my love. </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9" name="Picture 18" descr=""/>
          <p:cNvPicPr/>
          <p:nvPr/>
        </p:nvPicPr>
        <p:blipFill>
          <a:blip r:embed="rId5"/>
          <a:stretch/>
        </p:blipFill>
        <p:spPr>
          <a:xfrm>
            <a:off x="152280" y="380880"/>
            <a:ext cx="600120" cy="762120"/>
          </a:xfrm>
          <a:prstGeom prst="rect">
            <a:avLst/>
          </a:prstGeom>
          <a:ln w="0">
            <a:noFill/>
          </a:ln>
        </p:spPr>
      </p:pic>
      <p:sp>
        <p:nvSpPr>
          <p:cNvPr id="160" name="Rectangle 20"/>
          <p:cNvSpPr/>
          <p:nvPr/>
        </p:nvSpPr>
        <p:spPr>
          <a:xfrm>
            <a:off x="533520" y="1523880"/>
            <a:ext cx="6324480" cy="24386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8585e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503280"/>
            <a:ext cx="768240" cy="974520"/>
          </a:xfrm>
          <a:prstGeom prst="rect">
            <a:avLst/>
          </a:prstGeom>
          <a:ln w="0">
            <a:noFill/>
          </a:ln>
        </p:spPr>
      </p:pic>
      <p:pic>
        <p:nvPicPr>
          <p:cNvPr id="174" name="Picture 61" descr=""/>
          <p:cNvPicPr/>
          <p:nvPr/>
        </p:nvPicPr>
        <p:blipFill>
          <a:blip r:embed="rId4"/>
          <a:stretch/>
        </p:blipFill>
        <p:spPr>
          <a:xfrm>
            <a:off x="457200" y="2089080"/>
            <a:ext cx="762120" cy="1013040"/>
          </a:xfrm>
          <a:prstGeom prst="rect">
            <a:avLst/>
          </a:prstGeom>
          <a:ln w="0">
            <a:noFill/>
          </a:ln>
        </p:spPr>
      </p:pic>
      <p:sp>
        <p:nvSpPr>
          <p:cNvPr id="175"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br>
              <a:rPr sz="2400"/>
            </a:br>
            <a:r>
              <a:rPr b="0" lang="en-US" sz="1200" spc="-1" strike="noStrike" u="sng">
                <a:solidFill>
                  <a:srgbClr val="d6d6f5"/>
                </a:solidFill>
                <a:uFillTx/>
                <a:latin typeface="Arial"/>
              </a:rPr>
              <a:t>The Pl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 really hope you get this in time...</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380880" y="3505320"/>
            <a:ext cx="833400" cy="1241280"/>
          </a:xfrm>
          <a:prstGeom prst="rect">
            <a:avLst/>
          </a:prstGeom>
          <a:ln w="0">
            <a:noFill/>
          </a:ln>
        </p:spPr>
      </p:pic>
      <p:sp>
        <p:nvSpPr>
          <p:cNvPr id="180"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adadeb"/>
                </a:solidFill>
                <a:uFillTx/>
                <a:latin typeface="Arial"/>
              </a:rPr>
              <a:t>Where’d You G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were you last night? Mercutio and…</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Picture 63" descr=""/>
          <p:cNvPicPr/>
          <p:nvPr/>
        </p:nvPicPr>
        <p:blipFill>
          <a:blip r:embed="rId9"/>
          <a:stretch/>
        </p:blipFill>
        <p:spPr>
          <a:xfrm>
            <a:off x="380880" y="5181480"/>
            <a:ext cx="935280" cy="1219320"/>
          </a:xfrm>
          <a:prstGeom prst="rect">
            <a:avLst/>
          </a:prstGeom>
          <a:ln w="0">
            <a:noFill/>
          </a:ln>
        </p:spPr>
      </p:pic>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adadeb"/>
                </a:solidFill>
                <a:uFillTx/>
                <a:latin typeface="Arial"/>
              </a:rPr>
              <a:t>Rosalin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eed to get over Rosaline…</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28600" y="503280"/>
            <a:ext cx="768240" cy="97452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9" name="Picture 61" descr=""/>
          <p:cNvPicPr/>
          <p:nvPr/>
        </p:nvPicPr>
        <p:blipFill>
          <a:blip r:embed="rId6"/>
          <a:stretch/>
        </p:blipFill>
        <p:spPr>
          <a:xfrm>
            <a:off x="304920" y="1870200"/>
            <a:ext cx="1025280" cy="1365120"/>
          </a:xfrm>
          <a:prstGeom prst="rect">
            <a:avLst/>
          </a:prstGeom>
          <a:ln w="0">
            <a:noFill/>
          </a:ln>
        </p:spPr>
      </p:pic>
      <p:sp>
        <p:nvSpPr>
          <p:cNvPr id="200"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l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 really hope you get this in time. It’s not that I don’t trust Friar Laurence to deliver this to you, but maybe you’d believe it more coming from me. My dad wants me to marry some loser, Paris. I love you though, and I’m married to you. I would never marry him. Friar Laurence came up with this brilliant plan, though. All I have to do is drink some stuff that will make me look dead. I won’t have to marry Paris because I’ll be “dead” in the tomb. This is where you come in. After 42 hours I will wake up. You need to be there then. You can take me away with you to Mantua. We can be together forever after that. It’s so simple. Just me and my lover, Romeo. It sounds amazing, doesn’t it? I can’t wait to see you. I love you, Romeo! :D</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1" name="Picture 18" descr=""/>
          <p:cNvPicPr/>
          <p:nvPr/>
        </p:nvPicPr>
        <p:blipFill>
          <a:blip r:embed="rId3"/>
          <a:stretch/>
        </p:blipFill>
        <p:spPr>
          <a:xfrm>
            <a:off x="228600" y="457200"/>
            <a:ext cx="768240" cy="976320"/>
          </a:xfrm>
          <a:prstGeom prst="rect">
            <a:avLst/>
          </a:prstGeom>
          <a:ln w="0">
            <a:noFill/>
          </a:ln>
        </p:spPr>
      </p:pic>
      <p:sp>
        <p:nvSpPr>
          <p:cNvPr id="212"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00200" y="1905120"/>
            <a:ext cx="6400800" cy="335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ere’d you g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Where were you last night? Mercutio and I were looking for you forever it seemed like. Did you meet anyone? Anyone </a:t>
            </a:r>
            <a:r>
              <a:rPr b="0" i="1" lang="en-US" sz="1100" spc="-1" strike="noStrike">
                <a:solidFill>
                  <a:srgbClr val="000000"/>
                </a:solidFill>
                <a:latin typeface="Arial"/>
              </a:rPr>
              <a:t>special</a:t>
            </a:r>
            <a:r>
              <a:rPr b="0" lang="en-US" sz="1100" spc="-1" strike="noStrike">
                <a:solidFill>
                  <a:srgbClr val="000000"/>
                </a:solidFill>
                <a:latin typeface="Arial"/>
              </a:rPr>
              <a:t>? ;-) I at least hope you didn’t ditch out early on us because of Rosaline. Sorry, but you set yourself up for that by going missing last night. I’ll tell you, it was a good party. Who knew Capulets could throw an awesome party like that? I know I didn’t. The only thing that was kind of bugging me out was that dude Tybalt. He’s so creepy. I mean, he seemed really mad and kept staring at you and stuff. Did you do anything to upset him? I mean, he couldn’t possibly have known that we were actually from the House of Montague. Capulets aren’t that smart! Am I right, or am I right? Anyway, you have got to tell me what went on at that party. I’m dying to know!</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16" name="Picture 67" descr="http://t1.gstatic.com/images?q=tbn:z3n5W4wj5_tc-M:http://www.shakespearesantacruz.org/gallery/images/gillette_play2.jpg"/>
          <p:cNvPicPr/>
          <p:nvPr/>
        </p:nvPicPr>
        <p:blipFill>
          <a:blip r:embed="rId6"/>
          <a:stretch/>
        </p:blipFill>
        <p:spPr>
          <a:xfrm>
            <a:off x="290520" y="1752480"/>
            <a:ext cx="1073160" cy="1600200"/>
          </a:xfrm>
          <a:prstGeom prst="rect">
            <a:avLst/>
          </a:prstGeom>
          <a:ln w="0">
            <a:noFill/>
          </a:ln>
        </p:spPr>
      </p:pic>
      <p:pic>
        <p:nvPicPr>
          <p:cNvPr id="217" name="Picture 18" descr=""/>
          <p:cNvPicPr/>
          <p:nvPr/>
        </p:nvPicPr>
        <p:blipFill>
          <a:blip r:embed="rId7"/>
          <a:stretch/>
        </p:blipFill>
        <p:spPr>
          <a:xfrm>
            <a:off x="304920" y="3875040"/>
            <a:ext cx="1206360" cy="1546200"/>
          </a:xfrm>
          <a:prstGeom prst="rect">
            <a:avLst/>
          </a:prstGeom>
          <a:ln w="0">
            <a:noFill/>
          </a:ln>
        </p:spPr>
      </p:pic>
      <p:sp>
        <p:nvSpPr>
          <p:cNvPr id="218" name="TextBox 26"/>
          <p:cNvSpPr/>
          <p:nvPr/>
        </p:nvSpPr>
        <p:spPr>
          <a:xfrm>
            <a:off x="1676520" y="3886200"/>
            <a:ext cx="6400800" cy="239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ere’d you g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Ok, dude, I’ll tell you what went down last night. I met this girl. Her name is Juliet, and she is 100% beauty and grace. She’s cool though too. The only problem is that she is Old Man Capulet’s daughter. It is so bizarre how someone like her is related to someone like him. No offense to the Capulets though. Haha. She is really like a goddess though. I’ve never even met anyone who compared to her beauty. Last night, I stayed after because I had to see her again. She was out on her balcony and I was talking to her. That was after I heard you two fools outside bashing me because of Rosaline. You should have talked to me about her last night. I would have been like, “Rosaline who?” Anyway, we talked for a while. She said if I still love her tomorrow we can be married. Can you believe it? Romeo? A married man? Oh how I love her, Juliet.  And no, I did not do anything to offend Mr. High and Mighty, Tybalt Capulet. </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1"/>
          <a:stretch/>
        </p:blipFill>
        <p:spPr>
          <a:xfrm>
            <a:off x="228600" y="503280"/>
            <a:ext cx="768240" cy="97452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sal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eed to get over Rosaline, dude. I know you love her and everything, but soon you are going to realize that she is not the one you want. She is not hot, no matter what you keep saying. Romeo, you really need to get over her. We can’t have chicks making us men feel all depressed. If that happens, then they win. You’re a man; toughen up a bit! I know you’re thinking that it isn’t fair, but you have to trust me when I tell you that there are more gorgeous girls out there. Maybe someday you will find yourself one of them. Do you really think they would want you though if you’re moping around like some idiot? Chicks don’t dig that. They hate it. I’ve tried to be gentle and sympathetic with you, but I can’t take it anymore. Rosaline, Rosaline, Rosaline is all I ever here. Get over her. You’ll feel better.</a:t>
            </a:r>
            <a:endParaRPr b="0" lang="en-US" sz="1200" spc="-1" strike="noStrike">
              <a:solidFill>
                <a:srgbClr val="ffffff"/>
              </a:solidFill>
              <a:latin typeface="Arial"/>
            </a:endParaRPr>
          </a:p>
        </p:txBody>
      </p:sp>
      <p:pic>
        <p:nvPicPr>
          <p:cNvPr id="234" name="Picture 63" descr=""/>
          <p:cNvPicPr/>
          <p:nvPr/>
        </p:nvPicPr>
        <p:blipFill>
          <a:blip r:embed="rId2"/>
          <a:stretch/>
        </p:blipFill>
        <p:spPr>
          <a:xfrm>
            <a:off x="176040" y="1752480"/>
            <a:ext cx="1460520" cy="1905120"/>
          </a:xfrm>
          <a:prstGeom prst="rect">
            <a:avLst/>
          </a:prstGeom>
          <a:ln w="0">
            <a:noFill/>
          </a:ln>
        </p:spPr>
      </p:pic>
      <p:pic>
        <p:nvPicPr>
          <p:cNvPr id="235" name="Picture 18" descr=""/>
          <p:cNvPicPr/>
          <p:nvPr/>
        </p:nvPicPr>
        <p:blipFill>
          <a:blip r:embed="rId3"/>
          <a:stretch/>
        </p:blipFill>
        <p:spPr>
          <a:xfrm>
            <a:off x="304920" y="4408560"/>
            <a:ext cx="1206360" cy="1546200"/>
          </a:xfrm>
          <a:prstGeom prst="rect">
            <a:avLst/>
          </a:prstGeom>
          <a:ln w="0">
            <a:noFill/>
          </a:ln>
        </p:spPr>
      </p:pic>
      <p:sp>
        <p:nvSpPr>
          <p:cNvPr id="236" name="TextBox 23"/>
          <p:cNvSpPr/>
          <p:nvPr/>
        </p:nvSpPr>
        <p:spPr>
          <a:xfrm>
            <a:off x="1752480" y="44956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sal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don’t understand, bro. I love Rosaline. I know you only want to help me feel better, but sometimes a man’s got to get through it on his own. This is just how I deal with things. Okay? Sorry to bother you with my problems, but I seriously cannot help it. Rosaline’s a babe, she has got me head over heels in love with her. If I wait it out long enough, she’ll come around. No chick could resist me. Like my mother always tells me, I am a catch. Handsome, funny, rich. Oh, right, back to Rosaline. Sorry about that. Anyway, what I’m trying to tell you is that I know that eventually she will love me. Maybe not now, maybe not tomorrow, maybe not even next year, but she will love me eventually. For now, I just have to sit around and wait. It’s sad, but that’s what happens to a man with a broken heart. </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2</cp:lastModifiedBy>
  <dcterms:modified xsi:type="dcterms:W3CDTF">2010-05-17T18:22:19Z</dcterms:modified>
  <cp:revision>97</cp:revision>
  <dc:subject/>
  <dc:title>Profile</dc:title>
</cp:coreProperties>
</file>